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6A91-2305-4EC1-BE54-114CC5D31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24A-8AA1-462B-804A-110DFC80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F94-1AE4-431D-BACE-11A572F3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EA0-4C5B-4232-A570-18C011AF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A63-9351-4C5F-9014-71D9F6B7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CA5-23D7-4366-9A5A-F6955918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BC18-E5D6-4F2D-9BD0-91E31AE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BA3B-2FCB-4FC0-BE5D-5A946B8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C451-74FB-40BD-8C3D-CE1FDED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76A-32B8-46E2-A773-A8AE8B51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E315-80AC-4808-8C89-153FD5C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E591-CCEB-409B-BBB5-CE5D924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33D-02EC-488D-8DF4-8E3B37F6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D759-B728-401A-84E0-9022E558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0D41-89A5-43AA-807B-295A5CF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C6B3-65D2-41D7-BDF0-97D3AB0E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1D2-4BD2-4F48-9C8F-DCDA92E4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CE2C-91CE-42D5-81DE-5F49D6FF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A35-281F-40EE-B178-E35DAF7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C77-1A39-48AE-B402-3B73BA9F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758-3925-4535-B8B1-AA7F4BE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746-FE5F-4411-9C38-91F4055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B67-C3C2-4D99-9D47-C2DECA24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8F9-0737-43AD-BC39-FB41291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DA7-81AA-46C3-AA37-06AE68D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FE77-ED70-43AA-AB2E-1B99A84ED6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04B9-D2F6-45F3-A6AD-34FF3FB99B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jects.vassar.edu/1896/0319p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projects.vassar.edu/1896/0818rmn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orge_Eastman" TargetMode="External"/><Relationship Id="rId2" Type="http://schemas.openxmlformats.org/officeDocument/2006/relationships/hyperlink" Target="http://en.wikipedia.org/wiki/Kodak" TargetMode="External"/><Relationship Id="rId3" Type="http://schemas.openxmlformats.org/officeDocument/2006/relationships/hyperlink" Target="http://en.wikipedia.org/wiki/1888" TargetMode="External"/><Relationship Id="rId4" Type="http://schemas.openxmlformats.org/officeDocument/2006/relationships/hyperlink" Target="http://en.wikipedia.org/wiki/Box_camera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76320">
            <a:solidFill>
              <a:srgbClr val="a3c145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nit II: Industrializ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194000" cy="609912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Trus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group of corporations that unite in order to reduce competition &amp; control prices in a business or indus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 Rockefeller’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ndard Oil Trus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ohn D. Rockefell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862 invested in oil refinery’s (purify petroleum into fue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630600" cy="4343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09040" y="4952880"/>
            <a:ext cx="486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f you want to succeed you shou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rike out on new path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ather than travel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n paths of accepted success."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 -- John D. Rockefell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4194000" cy="5870520"/>
          </a:xfrm>
          <a:prstGeom prst="rect">
            <a:avLst/>
          </a:prstGeom>
          <a:noFill/>
          <a:ln w="57240">
            <a:solidFill>
              <a:srgbClr val="9383b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. Took control of all aspects of refinery busin. (oil fields, pipelines, ships, warehouses, &amp; barre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Ended up control 95% of oil refinery busin. Creating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nopol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ontrols all production &amp; sales of a product or servi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734000" y="2057400"/>
            <a:ext cx="4410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4194000" cy="5641920"/>
          </a:xfrm>
          <a:prstGeom prst="rect">
            <a:avLst/>
          </a:prstGeom>
          <a:noFill/>
          <a:ln w="76320">
            <a:solidFill>
              <a:srgbClr val="9383b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Following Rockefeller’s example other busin. (entrepreneurs) started trusts. (Railroads, meatpacking, sugar, whiskey &amp; tobac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busin. Leaders became extremely wealthy by crushing competitors. Critics called th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obber baro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713400" cy="4876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408320" y="-68400"/>
            <a:ext cx="58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Problems with Big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194000" cy="5641920"/>
          </a:xfrm>
          <a:prstGeom prst="rect">
            <a:avLst/>
          </a:prstGeom>
          <a:noFill/>
          <a:ln w="57240">
            <a:solidFill>
              <a:srgbClr val="9383b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Many ppl saw monopolies as a threat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ee compet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ong businesses to provide quality products at fair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Worried about influence of trust in poli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9240" y="304920"/>
            <a:ext cx="4784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194000" cy="617220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Laizzez f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 Big businesses believed in French economic philosophy of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“laissez fair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‘allow to do’- free competition with no gov’t interference even in monopol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2173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648320" y="3925440"/>
            <a:ext cx="4194000" cy="2173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0200" y="1295280"/>
            <a:ext cx="4933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5. Social Darwinis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990360"/>
            <a:ext cx="4727520" cy="563868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ilosophy influenced by the observations of  Scientist Charles Darw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natural selection- only the strongest surv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Economists used Darwin's philosophy to support laissez fa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ee competition=survival of fit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ov’t should not interf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Social Darwinist believe that God blessed the rich &amp; that lazy &amp; inferior ppl deserved to be po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950000" y="144756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2886120" cy="38098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857840" y="1905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noFill/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II: Urbanization &amp; Immig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733560" cy="53316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 fontScale="48000"/>
          </a:bodyPr>
          <a:p>
            <a:pPr marL="292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2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Urban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1981080"/>
            <a:ext cx="8540640" cy="465156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City living- caused by growth of big busin. &amp;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housands of ppl moved to cities looking fo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immigrants &amp; farmers looking for more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rban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Living Conditions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lack of transportation, lived in tenements (crappy apts), crime, poverty, overcrowded,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. Factory Working Condi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for low wages, children &amp; women worked for long hours, factories were unsafe &amp; unregulated &amp; danger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angle Shirtwaist Facto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Due to negligence (no regulations) the factory burned down. Many women died b/c doors were locked, fire escape collap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Inspired ppl to fight for workers’ rights (Francis Perkins-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men to serve in the Pres. Cabinet &amp; fought for worker’s righ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unions wen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ri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f they were un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to combat unions business owners banned union meetings, hired immigrants &amp; non union members (scabs), fired union wor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. New Technology Leads to Big Busines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876920"/>
          </a:xfrm>
          <a:prstGeom prst="rect">
            <a:avLst/>
          </a:prstGeom>
          <a:noFill/>
          <a:ln w="7632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dustrializa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birth &amp; growth of business that makes &amp; distribute products made by mach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growth of factories cause the market revolution (where ppl buy and sell goods rather than mak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9621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. Rise of Labor Un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613720" cy="495288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Unions-Groups of workers doing similar jobs – Limited numbers and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ights of Labor- First National Labor Union – skilled and unskilled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Federation of Labor (AFL)- (collective bargaining) – Only skilled workers from different indus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 Ladies’ Garment Workers Union – safer working conditions for women and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ses Fight back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sses Fight Bac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union membership grew their major power was to use strikes to force collective bargai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es hated unions as they were forced to pay more or lose money during a stri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es tried to “bust unions” – force them to break apart. They used political, legal, and physical power to make unions give 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es also hired “scabs” – temporary workers, many of them immigrants to work during stri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trikes became riots as workers got desperate, police and military were used to stop these stri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. Old Wave of Immig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. New Wave of Immig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65400" cy="1143000"/>
          </a:xfrm>
          <a:prstGeom prst="rect">
            <a:avLst/>
          </a:prstGeom>
          <a:noFill/>
          <a:ln w="76320">
            <a:solidFill>
              <a:srgbClr val="a3c14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New Technolog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4194000" cy="44989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194000" cy="655308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eel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old formula of making steel was hard &amp; exp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rew Carnegie (Carnegie Steel Comp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studied the less expensive Bessemer method of making steel &amp; brought the method back to the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4194000" cy="685800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other businesses took advantage of the new method (nails, need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to stay ahead of the game Carnegie developed good business strateg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hired best scientists &amp; managers. Took control over all aspects of steel business. (mines, coal, railroa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2819520" cy="3714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79800" y="4572000"/>
            <a:ext cx="37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dopt every improvemen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ve the best machine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d know the mos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ic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omas E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his invention factory developed the light bulb, phonograph, &amp; motion picture proje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1892-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lectrical power station (NY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414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48320" y="1295280"/>
            <a:ext cx="4194000" cy="480384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Teleph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Alexander Graham Bell (1879) invented the telephone. By 1915 over 9mil telephones were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633840" cy="4724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235520" y="5137200"/>
            <a:ext cx="26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tson come here,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nt you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4727520" cy="6553080"/>
          </a:xfrm>
          <a:prstGeom prst="rect">
            <a:avLst/>
          </a:prstGeom>
          <a:noFill/>
          <a:ln w="5724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her important inven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George Eastma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amera, "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Koda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" was first offered for sale in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88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It was a very simple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ox camer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with a fixed-focus lens &amp; single shutter spe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 Was priced relatively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came pre-loaded with enough film for 100 exposures &amp; needed to be sent back to the factory for processing &amp; reloading when the roll was finish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1295280" y="1295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76320">
            <a:solidFill>
              <a:srgbClr val="9383b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. New Business Organizations Emerg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.Growth of corpo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most businesses during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were proprietorships (small owned by one or a few partn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657680" y="1981080"/>
            <a:ext cx="4486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8080" cy="609480"/>
          </a:xfrm>
          <a:prstGeom prst="rect">
            <a:avLst/>
          </a:prstGeom>
          <a:noFill/>
          <a:ln w="76320">
            <a:solidFill>
              <a:srgbClr val="9383b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Corporations Emerg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4194000" cy="1298520"/>
          </a:xfrm>
          <a:prstGeom prst="rect">
            <a:avLst/>
          </a:prstGeom>
          <a:noFill/>
          <a:ln w="5724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ard of Director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kes sure $ is used prope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8320" y="837720"/>
            <a:ext cx="4194000" cy="5791320"/>
          </a:xfrm>
          <a:prstGeom prst="rect">
            <a:avLst/>
          </a:prstGeom>
          <a:noFill/>
          <a:ln w="76320">
            <a:solidFill>
              <a:srgbClr val="6fa9b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. Corporation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siness owned by man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vest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ppl who helped pay initial expen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Corp. make money by sell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har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ac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ockhold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opes to get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vide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part of the corps profi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974880" y="506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3:29:13Z</dcterms:created>
  <dc:creator>BPD</dc:creator>
  <dc:description/>
  <dc:language>en-US</dc:language>
  <cp:lastModifiedBy>Mark Greer</cp:lastModifiedBy>
  <dcterms:modified xsi:type="dcterms:W3CDTF">2010-10-14T01:20:50Z</dcterms:modified>
  <cp:revision>24</cp:revision>
  <dc:subject/>
  <dc:title>Unit II: Industrialization</dc:title>
</cp:coreProperties>
</file>